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8193-5A3F-4448-8179-218D24AF814D}"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4122-50F0-4036-AD43-5753DFD7B731}"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BD28-6FF2-4D6F-9F29-F20B2E520306}"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5AD9-35FF-47F4-9689-224519AEAB7F}"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5F15-64F5-4D3B-B0E5-EF35403D4EEB}"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31EA-A3DE-4C8C-BC57-1505C32BFB7F}"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502C3-4CA0-437E-82C3-142CB3AC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99A2-907B-4363-81AE-7EE4A61BB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61375-9948-4EEF-B41A-FB7E0B275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799B1-DC8C-4191-A983-8A269184C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792BB-D228-4BCC-AC83-1041DEDC0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4FE8C-AFFA-49CD-859C-5455860AB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233F3-2CA1-45B0-A93F-37F5F14A4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94E4A-12E1-4029-92B9-3590E5274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5FF06-9027-4F87-91A5-84AC99421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60D83-4E1A-4756-A10C-A1D7F4D47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2F3AB-5056-4580-9AEB-B1FD218A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EDB4E-8844-42D2-AA51-EB34A375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8517-1AEE-46AA-8CC3-C1F06456F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EF2D-C523-45B5-8E72-55F363D3D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AF2E1-8FAA-40CD-B331-B21BEA089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99199-5BC8-44A4-8A39-98A54D2FB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9EC30-5EF1-4B29-A063-14D8C44B9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A4DCB0-C7D9-4ADF-A551-759D852141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F5AEC-97C1-40EC-BA83-BDFDB4371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A985B6-9108-4136-8341-D9E454FB5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3BA77-7BAF-40A1-B8C1-640459C47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65C74-DFD2-48C3-B2EA-E071259B2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48C2-650E-4644-B96F-14A0036A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ABF0D-4FC3-4537-96F9-A0FD2BAA2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CBA5-14E8-40D1-84CE-5BB8FE87C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231CA-3AB5-450D-9D52-EBE67AB6F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B43B3-EC27-4FE2-A225-E5ED42FFE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A6064-ED74-4488-B90F-276E161B1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93294-3248-4485-B43D-4A859432BA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A90A8-7C0A-4614-845F-56468880A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94317-9859-4B36-833C-ECB62EA24E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197CC-30EB-491E-958C-43270EFA6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85C40-55AC-4BE1-B244-332CF5ADF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895E6-BE97-4317-A6ED-0875176D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71291-C838-492D-9F82-43583E808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531BB-3E8C-41A0-B0F4-C7F6B630CD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767BB-E5D4-4ECD-B039-D41FCE922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801E9-9DEF-4AE4-9181-1B9037D23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BBBBF-FAE2-4724-891B-25C2EE710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7209B-C0C5-4FF8-B10A-ADB24DCA8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00582-8214-48D8-BA49-F7F675EAC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0242A-AB24-4605-9923-4E3E58D00E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E5A027-57A8-4A82-8CA3-B5D98A86E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2B0835-6FD4-4A92-903F-A659F9151F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1A6D-A0C1-4F21-BE7E-33C5D42C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329EE-F926-4DB1-A095-1DB00BC70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3550E-E52C-41C2-B19C-911A7334D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D4997-0D5C-415C-8CB3-2EFE6EEA7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5907E-35EA-4D47-9381-D1F61E01D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C3E42-5FC5-41A8-ABBE-9E55C8904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FA84E-8B3B-433F-ADFE-950B57F99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188A3-FDFD-43B8-9E6C-877AC2A65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C0DD8-8CD4-4357-A93D-7C31F075C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7AF96-3D78-484C-BB9A-AADD78B05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0EC6E3-F1A1-4D04-868E-B2600DA961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0BFF-85C3-49C9-9D1A-C64C47F9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391AD-5DE7-4785-AA4C-30E49ED325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2C79-60A7-49B7-951D-75FC8046C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0770-93F2-484D-A7AD-C1421CD1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7C8E-18C7-4EAA-91A0-A81F5E3C6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C51E-50BF-42E4-AA9E-5A36EDC4BE03}"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9267-ADE8-4A04-B169-65EB781A1D98}"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C086-6D8B-4BA5-8151-CDC0CF77A500}"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D873-CA44-4A6F-91CC-895EB652827D}"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97B5-57EC-4BB0-BADC-4477865DB52A}"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Scherhamir Ibrahim</cp:lastModifiedBy>
  <dcterms:modified xsi:type="dcterms:W3CDTF">2012-07-26T01:16:22Z</dcterms:modified>
  <cp:revision>22</cp:revision>
  <dc:subject/>
  <dc:title>Slide 1</dc:title>
</cp:coreProperties>
</file>